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11.png" ContentType="image/png"/>
  <Override PartName="/ppt/media/image10.wmf" ContentType="image/x-wmf"/>
  <Override PartName="/ppt/media/image2.png" ContentType="image/png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200B-56E0-46D0-9092-EB8847E7B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576C-5BBD-41DE-ADC1-DF925496C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AC5F-9625-45AC-A425-3A2155F16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AE74-7ABC-4274-8C60-2A0FEDD44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7F67-B79C-42C9-AA27-336A4F2CA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5108-7D09-4E94-A5C8-B85D2A100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0625-6DD3-40AB-ABAE-F4D80D384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A82B-D7F1-48B8-BFE5-08FDD5B86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9126-5ABA-4CF0-9EB9-95E9FE010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E322-07B4-407D-BCCC-185F7FE5C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4CAB-29A5-4D03-B7E1-BA00DCC98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74C9-13F8-425E-95A2-52068844A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AU" sz="1000" spc="-1" strike="noStrike">
                <a:solidFill>
                  <a:srgbClr val="006600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1000" spc="-1" strike="noStrike">
                <a:solidFill>
                  <a:srgbClr val="006600"/>
                </a:solidFill>
                <a:latin typeface="Book Antiqu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000" spc="-1" strike="noStrike">
                <a:solidFill>
                  <a:srgbClr val="006600"/>
                </a:solidFill>
                <a:latin typeface="Book Antiq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000" spc="-1" strike="noStrike">
                <a:solidFill>
                  <a:srgbClr val="006600"/>
                </a:solidFill>
                <a:latin typeface="Book Antiqu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94836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1" lang="en-GB" sz="1400" spc="-1" strike="noStrike">
                <a:solidFill>
                  <a:srgbClr val="006600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23C93E9-8A5F-4533-B6C8-24E50EA90A0D}" type="slidenum">
              <a:rPr b="1" lang="en-GB" sz="1400" spc="-1" strike="noStrike">
                <a:solidFill>
                  <a:srgbClr val="006600"/>
                </a:solidFill>
                <a:latin typeface="Book Antiqu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Click to edit the title text format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458200" y="0"/>
            <a:ext cx="685800" cy="81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Session 09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Non-linear regression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Initial values 2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g &lt;- range(wtloss$Days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del &lt;- 0.25*(rg[2] - rg[1]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eta &lt;- predict(wt.lm1, data.frame(Days = rg[1] + 1:3*del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deta &lt;- diff(eta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0 &lt;- as.vector(del*log(2)/log(deta[1]/deta[2]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b &lt;- as.vector(coef(lm(Weight ~ I(2^(-Days/t0)), wtloss)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nit &lt;- c(b0 = ab[1], b1 = ab[2], tau = t0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wt.nls1 &lt;- nls(Weight ~ b0+b1*2^(-Days/tau), wtloss,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start = init, trace = T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39.46115 :   82.51384 101.67121 139.21188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39.24485 :   81.39093 102.66630 141.87092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39.2447  :   81.37376 102.68416 141.91049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F3B6-92CD-4B25-88EA-A3D1D6FB5117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Now what happens under extrapolation?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50920" y="2421000"/>
          <a:ext cx="5329440" cy="411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2421000"/>
                    <a:ext cx="5329440" cy="411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879480" y="1413000"/>
            <a:ext cx="5099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mp &lt;- data.frame(Days = 0:70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mp$Weight &lt;- predict(wt.nls1, t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xyplot(Weight ~ Days, tmp, type="l"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4633-6998-469F-8F7C-214A5A97B727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Cementing it inside a function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val &lt;- function(y, x) {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g &lt;- range(x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del &lt;- 0.25 * (rg[2] - rg[1]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m &lt;- lm(y ~ x + I(x^2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dat &lt;- data.frame(x = rg[1] + 1:3 * del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eta &lt;- predict(fm, dat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deta &lt;- diff(eta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0 &lt;- as.vector((del * log(2))/log(deta[1]/deta[2]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b &lt;- as.vector(coef(lm(y ~ I(2^( - x/t0)))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(b0 = ab[1], b1 = ab[2], tau = t0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with(wtloss, ival(Weight, Days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de-DE" sz="18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de-DE" sz="1800" spc="-1" strike="noStrike">
                <a:solidFill>
                  <a:srgbClr val="000099"/>
                </a:solidFill>
                <a:latin typeface="Courier New"/>
              </a:rPr>
              <a:t>b0       b1      tau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de-DE" sz="1800" spc="-1" strike="noStrike">
                <a:solidFill>
                  <a:srgbClr val="000099"/>
                </a:solidFill>
                <a:latin typeface="Courier New"/>
              </a:rPr>
              <a:t>81.3299 102.7232 142.0143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8DA6-FBCA-4567-BDB5-82F20A964E01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Derivative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484280"/>
            <a:ext cx="7772400" cy="454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 Unicode MS"/>
              </a:rPr>
              <a:t>The non-linear least squares fitting algorithm can use first derivatives if they are available.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 Unicode MS"/>
              </a:rPr>
              <a:t>The regression function must be an S function that returns the values with the derivatives as an attribute.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 Unicode MS"/>
              </a:rPr>
              <a:t>There is an important tool for doing the differentiation and providing the function in one step.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negexp &lt;- deriv(~ b0 + b1*2^(-x/tau),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c("b0", "b1", "tau"),function(x, b0, b1, tau) {}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wt.nls2 &lt;- nls(Weight ~ negexp(Days, b0, b1, tau),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wtloss, start = with(wtloss, ival(Weight, Days)),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trace = T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39.24501 :   81.3299 102.7232 142.0143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39.2447  :   81.3740 102.6840 141.9099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39.2447  :   81.37382 102.68412 141.91037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BB72-53C0-4228-B4D3-554FBD6E48F0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4360" y="62028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&gt; negexp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Courier New"/>
              </a:rPr>
              <a:t>function (x, b0, b1, tau) {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000099"/>
                </a:solidFill>
                <a:latin typeface="Courier New"/>
              </a:rPr>
              <a:t>.expr3 &lt;- 2^(-x/tau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000099"/>
                </a:solidFill>
                <a:latin typeface="Courier New"/>
              </a:rPr>
              <a:t>.value &lt;- b0 + b1 * .expr3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000099"/>
                </a:solidFill>
                <a:latin typeface="Courier New"/>
              </a:rPr>
              <a:t>.grad &lt;- array(0, c(length(.value), 3L), list(NULL, c("b0", "b1", "tau"))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000099"/>
                </a:solidFill>
                <a:latin typeface="Courier New"/>
              </a:rPr>
              <a:t>.grad[, "b0"] &lt;- 1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000099"/>
                </a:solidFill>
                <a:latin typeface="Courier New"/>
              </a:rPr>
              <a:t>.grad[, "b1"] &lt;- .expr3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000099"/>
                </a:solidFill>
                <a:latin typeface="Courier New"/>
              </a:rPr>
              <a:t>.grad[, "tau"] &lt;- b1 * (.expr3 * (log(2) * (x/tau^2))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000099"/>
                </a:solidFill>
                <a:latin typeface="Courier New"/>
              </a:rPr>
              <a:t>attr(.value, "gradient") &lt;- .grad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000099"/>
                </a:solidFill>
                <a:latin typeface="Courier New"/>
              </a:rPr>
              <a:t>.value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7C22-3C76-4806-9E1D-5ECD6C7FB894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Putting it all together: Self-starter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e regression (S-)function may also include an attribute giving an algorithm for finding initial value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If this is possible, it makes fitting such non-linear models very convenient, and if the initial value routine is good, very secure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Writing such a self-starting regression function requires us to use some obscure conventions.  This is necessary because it has to cohere to the model fitting function itself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We are about to write a function that will not be called by us, but by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nls()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 itself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10C3-056E-4640-861C-6A24F188C144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4360" y="692280"/>
            <a:ext cx="7772400" cy="533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SSival &lt;- function(</a:t>
            </a:r>
            <a:r>
              <a:rPr b="1" lang="en-GB" sz="1800" spc="-1" strike="noStrike">
                <a:solidFill>
                  <a:srgbClr val="ff0000"/>
                </a:solidFill>
                <a:latin typeface="Courier New"/>
              </a:rPr>
              <a:t>mCall, data, LHS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urier New"/>
              </a:rPr>
              <a:t># y ~ b0 + b1*2^(-x/tau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Courier New"/>
              </a:rPr>
              <a:t>x &lt;- eval(mCall[["x"]], data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Courier New"/>
              </a:rPr>
              <a:t>y &lt;- eval(LHS, data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g &lt;- range(x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del &lt;- 0.25 * (rg[2] - rg[1]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m &lt;- lm(y ~ x + I(x^2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dat &lt;- data.frame(x = rg[1] + 1:3 * del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eta &lt;- predict(fm, dat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deta &lt;- diff(eta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0 &lt;- as.vector((del * log(2))/log(deta[1]/deta[2]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b &lt;- as.vector(coef(lm(y ~ I(2^( - x/t0)))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Courier New"/>
              </a:rPr>
              <a:t>pars &lt;- list(ab[1], ab[2], t0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Courier New"/>
              </a:rPr>
              <a:t>names(pars) &lt;- mCall[c("b0", "b1", "tau")]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Courier New"/>
              </a:rPr>
              <a:t>pars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BAFC-89D4-43B5-ACC2-0618A5E9DA8D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Trying it out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SSnegexp &lt;- selfStart(model = ~ b0 + b1*2^(-x/tau),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nitial = SSival, parameters = c("b0", "b1", "tau"),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emplate = function(x, b0, b1, tau) {}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wt.nls3 &lt;- nls(Weight ~ SSnegexp(Days, a, b, t), wtloss, trace = T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39.24501 :   81.3299  102.7232  142.0143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39.2447  :   81.3740  102.6840  141.9099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39.2447  :   81.37382 102.68412 141.91037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Looks pretty good!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BDE6-8F20-4E2E-B5E7-E94724351F94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The weight loss data: summary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ummary(wt.nls3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Formula: Weight ~ SSnegexp(Days, a, b, t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Parameters: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Value Std. Error t value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a  81.374    2.26899 35.8635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b 102.684    2.08275 49.3021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t 141.910    5.29449 26.8033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Residual standard error: 0.894937 on 49 degrees of freedom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Correlation of Parameter Estimates: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      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a      b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b -0.989     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t -0.986  0.956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0EFB-1D8D-4E7E-B3FC-C70874930478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Second example: Stormer Viscometer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e regression is of the form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Ignoring the error, simplifying and re-writing give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e rest is easy: regress y = wT on x1 = V and x2 = T with no intercept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3203640" y="2205000"/>
          <a:ext cx="2376360" cy="90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3640" y="2205000"/>
                    <a:ext cx="2376360" cy="90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" name=""/>
          <p:cNvGraphicFramePr/>
          <p:nvPr/>
        </p:nvGraphicFramePr>
        <p:xfrm>
          <a:off x="3059280" y="3573360"/>
          <a:ext cx="3260520" cy="660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59280" y="3573360"/>
                    <a:ext cx="3260520" cy="6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FD84-9BA1-4A14-8715-CC2AFA53E188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An example: the weight loss data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5" name=""/>
          <p:cNvSpPr/>
          <p:nvPr/>
        </p:nvSpPr>
        <p:spPr>
          <a:xfrm>
            <a:off x="676800" y="1413000"/>
            <a:ext cx="415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library(MAS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xyplot(Weight ~ Days, wtlos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124000" y="2133720"/>
            <a:ext cx="5977080" cy="4513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7067-8ABA-4CEC-90B5-9584A9B2AB8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Trying out the stormer example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25000"/>
            <a:ext cx="7772400" cy="490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SSival.storm &lt;- function(mCall, data, LHS) {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# y ~ b*x1/(x2-theta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x1 &lt;- eval(mCall[["x1"]], data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x2 &lt;- eval(mCall[["x2"]], data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y &lt;- eval(LHS, data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cf &lt;- lsfit(cbind(x1, y), x2*y, int = F)$coef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names(cf) &lt;- mCall[c("b", "theta")]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cf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storm &lt;- selfStart(model = ~ b*x1/(x2-theta),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initial = SSival.storm, parameters = c("b", "theta"),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template = function(x1, x2, b, theta) {}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storm.nls1 &lt;- nls(Time ~ storm(Viscosity, Wt, beta, tau), stormer, trace=T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885.3645 :  28.875541  2.843728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825.1098 :  29.393464  2.233276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825.0514 :  29.401327  2.218226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825.0514 :  29.401257  2.218274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9211-2460-406C-85A4-898005556CA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Confidence interval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Marginal intervals are available as estimate </a:t>
            </a:r>
            <a:r>
              <a:rPr b="0" lang="en-US" sz="2400" spc="-1" strike="noStrike">
                <a:solidFill>
                  <a:srgbClr val="000099"/>
                </a:solidFill>
                <a:latin typeface="Arial Unicode MS"/>
                <a:ea typeface="Arial Unicode MS"/>
              </a:rPr>
              <a:t>± 2SE in much the same way as LM/GLM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  <a:ea typeface="Arial Unicode MS"/>
              </a:rPr>
              <a:t>Joint intervals are sometimes useful.  These need to be constructed individually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Arial Unicode MS"/>
                <a:ea typeface="Arial Unicode MS"/>
              </a:rPr>
              <a:t>Profiling</a:t>
            </a:r>
            <a:r>
              <a:rPr b="0" lang="en-US" sz="2400" spc="-1" strike="noStrike">
                <a:solidFill>
                  <a:srgbClr val="000099"/>
                </a:solidFill>
                <a:latin typeface="Arial Unicode MS"/>
                <a:ea typeface="Arial Unicode MS"/>
              </a:rPr>
              <a:t> can also be used to find likelihood ratio intervals and to give some idea of joint 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  <a:ea typeface="Arial Unicode MS"/>
              </a:rPr>
              <a:t>behaviour</a:t>
            </a:r>
            <a:r>
              <a:rPr b="0" lang="en-US" sz="2400" spc="-1" strike="noStrike">
                <a:solidFill>
                  <a:srgbClr val="000099"/>
                </a:solidFill>
                <a:latin typeface="Arial Unicode MS"/>
                <a:ea typeface="Arial Unicode MS"/>
              </a:rPr>
              <a:t> of the estimate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m.nls1$call$trace &lt;- FALSE # turn off the trace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r(mfrow = c(1,2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m.pf &lt;- profile(storm.nls1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lot(storm.pf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r(mfrow = c(1,1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irs(storm.pf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1C7C-6AB6-471A-B564-8FDE7A4D6A2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981000"/>
            <a:ext cx="9018720" cy="4600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E57A-C88C-4AFA-A3B2-ADF1670C5C53}" type="slidenum">
              <a:t>2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76360" y="0"/>
            <a:ext cx="6624720" cy="6624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55A8-1AF8-4226-A61A-54682249F952}" type="slidenum">
              <a:t>2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Note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Behaviour of the log-likelihood surface near the MLE appears to be quadratic, implying that the approximate confidence intervals are probably reasonable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e parameter estimates are highly correlated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For more detailed behaviour we need to look at the bivariate surface directly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EFDB-484C-44B3-8829-F7216F626B71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684360" y="333000"/>
            <a:ext cx="7772400" cy="569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b &lt;- coef(storm.nls1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se &lt;- sqrt(diag(vcov(storm.nls1)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del &lt;- seq(-5, 5, length = 101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Stm &lt;- expand.grid(beta = b[1] + del*se[1], tau = b[2] + del*se[2]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gfn &lt;- with(stormer,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outer(Viscosity, Stm$beta)/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outer(Wt, Stm$tau, "-"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s &lt;- matrix(stormer$Time, nrow(stormer), nrow(Stm)) - Regfn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Stm$RSS &lt;- colSums(res*res)/1000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Stm$RSS &lt;- with(Stm, log10(1 + RSS - min(RSS)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levelplot(RSS ~ beta + tau, Stm, contour = TRUE, pretty = TRUE,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ol.regions = rev(heat.colors(100)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ont &lt;- round(quantile(Stm$RSS,0:10/10), 2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ontourplot(RSS ~ beta+tau, Stm, at=cont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C5BC-2F8A-41D3-B62B-0B2DF2133011}" type="slidenum">
              <a:t>2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332000" y="0"/>
            <a:ext cx="6769080" cy="6769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2BF4-BC52-408B-A1F2-9EC0CDFAC09B}" type="slidenum">
              <a:t>2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971640" y="0"/>
            <a:ext cx="6769080" cy="6769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DB46-C1FF-4C5E-ABD5-9914F8F9CAEE}" type="slidenum">
              <a:t>2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Bootstrap interval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ree possible ways of using bootstrap ideas on non-linear regression: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05600" indent="-27144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Bootstrap on the observations themselves: Could lead to cases where the model is non-estimable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05600" indent="-27144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Bootstrap on the residuals, centred or uncentred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05600" indent="-271440">
              <a:spcBef>
                <a:spcPts val="45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e “Bayesian bootstrap”: give each observation a variable weight (as the ordinary bootstrap does) and vary the weights.  It can be shown that an exp(1) weight is appropriate.  </a:t>
            </a:r>
            <a:r>
              <a:rPr b="0" lang="en-GB" sz="1800" spc="-1" strike="noStrike">
                <a:solidFill>
                  <a:srgbClr val="3333cc"/>
                </a:solidFill>
                <a:latin typeface="Arial Unicode MS"/>
              </a:rPr>
              <a:t>Rubin, D. B. (1981). The Bayesian Bootstrap. </a:t>
            </a:r>
            <a:r>
              <a:rPr b="0" i="1" lang="en-GB" sz="1800" spc="-1" strike="noStrike">
                <a:solidFill>
                  <a:srgbClr val="3333cc"/>
                </a:solidFill>
                <a:latin typeface="Arial Unicode MS"/>
              </a:rPr>
              <a:t>Annals of Statistics</a:t>
            </a:r>
            <a:r>
              <a:rPr b="0" lang="en-GB" sz="1800" spc="-1" strike="noStrike">
                <a:solidFill>
                  <a:srgbClr val="3333cc"/>
                </a:solidFill>
                <a:latin typeface="Arial Unicode MS"/>
              </a:rPr>
              <a:t>, </a:t>
            </a:r>
            <a:r>
              <a:rPr b="1" lang="en-GB" sz="1800" spc="-1" strike="noStrike">
                <a:solidFill>
                  <a:srgbClr val="3333cc"/>
                </a:solidFill>
                <a:latin typeface="Arial Unicode MS"/>
              </a:rPr>
              <a:t>9</a:t>
            </a:r>
            <a:r>
              <a:rPr b="0" lang="en-GB" sz="1800" spc="-1" strike="noStrike">
                <a:solidFill>
                  <a:srgbClr val="3333cc"/>
                </a:solidFill>
                <a:latin typeface="Arial Unicode MS"/>
              </a:rPr>
              <a:t>, 130-134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lvl="1" marL="705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E34E-DACF-4E41-9907-7F419D0C9627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A demonstration: the weights are “about right”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4360" y="1341000"/>
            <a:ext cx="7772400" cy="46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m &lt;- v &lt;- numeric(100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or(j in 1:100) {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sam &lt;- factor(sample(1:50, 50, rep = T), levels = 1:50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sam &lt;- table(sam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m[j] &lt;- mean(sam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[j] &lt;- var(sam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mean(m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[1] 1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mean(v</a:t>
            </a: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[1] 1.013061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v &lt;- rexp(5000, 1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mean(rv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[1] 0.9899044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ar(rv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[1] 0.9623089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A45B-A333-4B2A-92BD-E3CE7FFB2802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Natural model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Polynomials?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20720" indent="-27720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Quadratic – too pessimistic?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20720" indent="-27720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Cubic – no evidence yet of an inflexion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2640" indent="-33264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Non-linear?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2640" indent="-33264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Advantages: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20720" indent="-27720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Some evidence from dietary theory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20720" indent="-27720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Clear advantages in short-term extrapolation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2640" indent="-33264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Disadvantage: harder to fit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332000" y="3573360"/>
          <a:ext cx="4608360" cy="70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3573360"/>
                    <a:ext cx="4608360" cy="70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1F4F-0544-4E89-B5FD-A01B891F64EE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Trying it out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4360" y="1413000"/>
            <a:ext cx="7772400" cy="461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B &lt;- matrix(NA, 1000, 2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or(i in 1:1000) {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w &lt;- rexp(nrow(stormer), 1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mp &lt;- try(update(storm.nls1, weights = w)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(class(tmp)[1] != "try-error"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B[i,  ] &lt;- coef(tmp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000000"/>
                </a:solidFill>
                <a:latin typeface="Courier New"/>
              </a:rPr>
              <a:t>&gt; colMeans(B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000000"/>
                </a:solidFill>
                <a:latin typeface="Courier New"/>
              </a:rPr>
              <a:t>[1] 29.344850  2.278037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000000"/>
                </a:solidFill>
                <a:latin typeface="Courier New"/>
              </a:rPr>
              <a:t>&gt; var(B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sv-SE" sz="1600" spc="-1" strike="noStrike">
                <a:solidFill>
                  <a:srgbClr val="000000"/>
                </a:solidFill>
                <a:latin typeface="Courier New"/>
              </a:rPr>
              <a:t>[,1]       [,2]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000000"/>
                </a:solidFill>
                <a:latin typeface="Courier New"/>
              </a:rPr>
              <a:t>[1,]  0.3468216 -0.3090304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000000"/>
                </a:solidFill>
                <a:latin typeface="Courier New"/>
              </a:rPr>
              <a:t>[2,] -0.3090304  0.3718592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9F29-0D79-487D-9AB0-749705A8EDD2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684360" y="549000"/>
            <a:ext cx="7772400" cy="548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B1 &lt;- matrix(NA, 1000, 2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rs &lt;- scale(resid(storm.nls1), scale = F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yt &lt;- stormer$Time - rs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for(i in 1:1000) {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ThisY &lt;- as.vector(yt + sample(rs, rep = T)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tmp &lt;- try(update(storm.nls1, ThisY ~ .)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if(class(tmp)[1] != "try-error"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B1[i,  ] &lt;- coef(tmp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000000"/>
                </a:solidFill>
                <a:latin typeface="Courier New"/>
              </a:rPr>
              <a:t>&gt; colMeans(B1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000000"/>
                </a:solidFill>
                <a:latin typeface="Courier New"/>
              </a:rPr>
              <a:t>[1] 30.10174  1.94715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000000"/>
                </a:solidFill>
                <a:latin typeface="Courier New"/>
              </a:rPr>
              <a:t>&gt; var(B1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sv-SE" sz="2000" spc="-1" strike="noStrike">
                <a:solidFill>
                  <a:srgbClr val="000000"/>
                </a:solidFill>
                <a:latin typeface="Courier New"/>
              </a:rPr>
              <a:t>[,1]       [,2]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000000"/>
                </a:solidFill>
                <a:latin typeface="Courier New"/>
              </a:rPr>
              <a:t>[1,]  0.7475719 -0.4950940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000000"/>
                </a:solidFill>
                <a:latin typeface="Courier New"/>
              </a:rPr>
              <a:t>[2,] -0.4950940  0.3882688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D890-04CB-432E-B638-19026B96DECA}" type="slidenum">
              <a:t>3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Final comparison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&gt; apply(B, 2, quantile, c(1, 39)/40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          </a:t>
            </a: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[,1]      [,2]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2.5%  28.09367 0.9321281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97.5% 30.52142 3.3800514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&gt; apply(B1, 2, quantile, c(1, 39)/40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          </a:t>
            </a: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[,1]      [,2]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2.5%  28.37939 0.7236612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97.5% 31.69766 3.1115609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&gt; tau &lt;- qt(0.975, nrow(stormer)-2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&gt; b &lt;- coef(storm.nls1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&gt; se &lt;- sqrt(diag(vcov(storm.nls1))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&gt;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&gt; rbind(b - tau*se, b + tau*se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         </a:t>
            </a: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beta      tau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[1,] 27.49730 0.834246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[2,] 31.30521 3.602302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1A43-3CEC-4ED6-BBA0-DE6AE2ADCE62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Final comment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Non-linear regression offers a way of integrating empirical and “process” model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If kinds of non-linear regression are to be repeatedly done, some investment in selfStart models pays off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Bootstrap confidence intervals for the parameters can be relatively straightforward, if the model is small and the data set manageable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"Tests of fit" are not automatically available.  Graphical examination of residuals is important here, as elsewhere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5B92-D4C1-47A8-9743-A578B5234708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An initial empirical fit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267920"/>
            <a:ext cx="7772400" cy="504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wt.lm1 &lt;- lm(Weight ~ poly(Days, 3), wtloss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Wtloss &lt;- with(wtloss,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data.frame(Days = seq(min(Days), max(Days), len = 1000), Weight = NA)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Wtloss &lt;- rbind(Wtloss, wtloss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Wtloss &lt;- Wtloss[order(Wtloss$Days), ]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Wtloss$pWeight &lt;- predict(wt.lm1, Wtloss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ibrary(lattice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xyplot(Weight ~ Days, Wtloss,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anel = function(x, y, ...) {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anel.xyplot(x, y, ...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anel.lines(x, Wtloss$pWeight, col = "red"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314A-EB79-4F5B-9636-C20C1EAB399A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497800" cy="6416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916E-B096-4F91-BD57-06B799689E7B}" type="slidenum">
              <a:t>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What happens under extrapolation?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55" name=""/>
          <p:cNvSpPr/>
          <p:nvPr/>
        </p:nvSpPr>
        <p:spPr>
          <a:xfrm>
            <a:off x="523080" y="1247760"/>
            <a:ext cx="813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plot(0:700, predict(wt.lm1, data.frame(Days = 0:700)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type = "l", xlab = "Days", ylab = "Weight", col = "red"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with(wtloss, points(Days, Weight, pch = 4, col = "blue"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rcRect l="0" t="7158" r="0" b="0"/>
          <a:stretch/>
        </p:blipFill>
        <p:spPr>
          <a:xfrm>
            <a:off x="1692360" y="2205000"/>
            <a:ext cx="5759280" cy="403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0C1D-06CE-48D9-A9FC-F5B1A90FA9B7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Initial values 1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First algorithm: guess them!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wt.nls0 &lt;-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nls(Weight ~ b0 + b1 * 2^( - Days/tau), wtloss,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tart = c(b0 = 70, b1 = 122, tau = 150),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race = T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769.5897  :   70 122 150 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42.10227 :   81.57397 102.48311 142.58520 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39.24473 :   81.3761  102.6819  141.9020 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39.2447  :   81.3738  102.6841  141.9104 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72F8-9009-4394-AF46-3620CA7E1A53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Extrapolation under the non-linear model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60" name=""/>
          <p:cNvSpPr/>
          <p:nvPr/>
        </p:nvSpPr>
        <p:spPr>
          <a:xfrm>
            <a:off x="504000" y="1125360"/>
            <a:ext cx="813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lines(0:700, predict(wt.nls0, data.frame(Days = 0:700))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col = "green4"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abline(h = coef(wt.nls0)[1], lty = "dashed", col = "blue"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692360" y="2128680"/>
            <a:ext cx="6264360" cy="472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AD09-7332-4CA5-8B8C-FB72D8A6DB92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Initial values 2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Second algorithm: calculate approximate value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900000" y="2492280"/>
          <a:ext cx="4392720" cy="318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2492280"/>
                    <a:ext cx="4392720" cy="31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13E3-426A-47E9-B291-CC3C1FE2385B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24T03:19:39Z</dcterms:created>
  <dc:creator>Venables</dc:creator>
  <dc:description/>
  <dc:language>en-US</dc:language>
  <cp:lastModifiedBy>Venables, Bill (CMIS, Cleveland)</cp:lastModifiedBy>
  <dcterms:modified xsi:type="dcterms:W3CDTF">2007-08-21T02:26:14Z</dcterms:modified>
  <cp:revision>27</cp:revision>
  <dc:subject/>
  <dc:title>S-PLUS, An Introduction to the System</dc:title>
</cp:coreProperties>
</file>